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C9E-8A5F-4ED5-A2C2-969E6FDC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5F1-8580-448E-941D-BC86CCEF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246E6-EAF1-41CC-912C-7650D9F9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B5682-DB27-42D9-8925-CAEB8D2D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5D7F7-92FA-4BF0-B8E3-28A1097B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53C22-24F3-4B74-B20F-2D154BCC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D4F3B-39E1-4623-8267-802D899B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C8149-A278-48F3-AFC9-C989FB4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6B182-706E-4C39-823C-C384430E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3AC83-6830-4F85-934D-99D29A51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D9154-7C2E-4437-BF7E-00CD7C13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4FAC9-AE9A-4D65-BD85-47FE40C6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BB9-21D3-492D-9242-13288CA9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AD3EF-25EA-45CC-9268-21A51F50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8C807-635E-46C8-BD2D-1ADAF347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B609E-2E4B-479F-B3EC-CB1EB2FB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4A218-EA5C-4827-A2E2-2F1F5883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B0299-804C-4B5C-98D6-03094145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3DCB7-F0FE-416D-908C-6D2EE8C7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1B4FF-FF5A-40C4-B55E-C57CBAB5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E9D41-0ED9-4DA2-9B0D-E1BBDAF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2B980-D859-44EB-ADCB-A70D8937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A06DA-5CFA-4AA2-9B98-E8F47296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A29-A580-4B2F-8CCB-60DA897A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74B51-231E-4848-8391-55612FE7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A2C05-FA6F-4D6B-8C83-5B298073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AF0AE-A0F4-4972-9420-64BD21D9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98147-5A8D-41A4-A9C9-03C57398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51DF0-10F5-4643-BE4B-ED4C4345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B4C88-573A-4EA2-8C43-3ADBA752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90AC5-0691-4494-B1C6-B002AB80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61082-55B1-4BF7-AA30-F3B4CF2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C282C-3A52-4993-ADD8-7A565E4B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2AAD6-7A36-4517-A672-82BFE1BE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2120-A3EC-484C-B6F7-63088362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6A5E4-1472-4F89-A23E-CB35586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CBF7A-EC70-4EF2-B875-553CACB9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E66B8-EE87-4805-A4E8-A00F322B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96E98-E481-44CC-AFB0-803E847C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0B1DB-9EEC-47DB-AA1F-41465173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39FAB-4F6C-40C1-A901-4157139F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FA554-E1B3-4438-926F-6AB7D283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499FA-F92A-4A54-86DB-A0E25115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053DE-C37C-4691-8228-7E23F3BE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52DB1-3966-4B42-A83B-1ECC1DAF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F9D0-480B-4C0C-90E0-B53560D7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41194-A83C-4D4B-B897-BD9C4B6F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ED413-4923-4A1D-BD7F-2356854C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408D8-9348-47AD-A3E4-B751EDF4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CD391-2809-404D-A366-57A431E8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C9BFA-780C-4E14-AA52-8D032A1A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865B0-53F4-400E-9834-9FA88DBF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939E1-1F6B-42B5-AE6F-A7217D1B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EC9B5-39DE-4760-82E9-768C1B62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D3294-CCDE-41A5-99EE-FCDD14D3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6213B-B4EF-487D-940D-7C5ACC3C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C82B-EE4D-4F03-9982-015944DC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001FC-733D-4EF1-9FD6-A7764678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4F2CB-979F-40B9-A033-EC612AD4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47691-4645-48DF-AB7C-6688BD9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855C4-E933-4A6B-AFCB-BDD5271C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3F1E1-0156-4416-A7D9-6B5BB2FD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095B7-506A-40A7-87FC-B18B52C6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66BB1-AD9A-4F84-856C-9AA3FC98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E0D51-FAEF-4FB6-830B-2505BE4C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4B258-E00C-4B02-931A-D0A33502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2B807-854E-4D5C-8CD5-F668441B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24B9-022B-47ED-AFAB-9C7C2515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F8FA1-F035-43D1-AE1F-3E2AE6E0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F6FBF-255A-4DD4-9189-C207CAE5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709BB-FD9C-435F-BE30-AB495A4E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B405F-9DD8-4FF4-B577-37E567C9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0FAAE-A6BA-465C-8EE9-8A67E8E1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DBDCD-FB47-43F8-ABD5-8EF3D401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85C5B-B6AE-4483-9E87-03D290F6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F429B-222A-4E95-A8C5-993A3873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8A00F-D9F6-480E-A660-938512F6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8D557-7C83-45B0-9B34-F81512C9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9969-229A-4FAA-BCBF-E31D4BF5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4F99F-D6F0-438A-9EDB-C5E88E2A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FAB88-D40F-4F02-82E1-AC4C3232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68727-55F7-439C-BD08-4E6053E9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78AC6-4836-45DB-9804-9E97BEAF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9CC4E-572B-4C6F-8643-FE2FEC8E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500BB-30C6-4C9B-893C-75BFE4B7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1C456-3E07-481D-961C-0F4FE8E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59EF6-10C6-453C-919D-63153DDA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1E769-3CEC-4CCB-9595-77B9E235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6869A-C4A6-4FBA-8352-45A4EC81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5E90-3BEC-467C-9745-1BA29D38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D20D8-AB3E-4D4D-984C-F6A733B5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CD4B-1EAC-47D3-B62D-C23CE3F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501-4D8D-43B7-AA0B-6A61AE7E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7F77-177B-479A-A89E-C3652441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6C39-7E3F-4AAE-8355-1AD1D2A4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CF31-DFA8-4341-B802-32EF0F19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9ED2-55C6-4F17-9B4F-4B829326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6D8E-9067-4D92-BAB2-5CE00235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B165B-2F29-4FC8-A724-93DCC300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0A3D-07DE-4193-A297-BF0ADC81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467A-3519-4A77-8E09-419B5650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65BD0-95B1-40BF-B58F-68B83F8D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0942-1863-4AE0-A83B-754E9E61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6C3-C5D0-4C18-A8C4-F1CD5B3D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DB6B-EA83-4980-98D6-4726CB08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2C0C-CCC3-40BE-8D83-BF391FA7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ED72-31F6-49E4-8857-83F034C4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9CCC-128D-4F88-A459-974518D6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C36F-897F-4E03-B5CB-3A0D36E4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CF7B8-73A9-4409-ACFC-88C6E239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087F-CE28-40B0-95CC-5C6FC146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3BD1-777E-4BF0-B853-17B9D915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062E0-A931-49BD-9D98-693609FC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9BC5-E7C5-46E2-8738-03C38955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3A7-B99C-4743-9875-01526A3B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42F58-24F6-473E-BAD2-E5448A66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6BABF-FD55-4EAD-92FD-D4FA26F9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2E2D-B2BD-4FA9-B3E2-99AA52BB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F6E81-BF66-445B-B07A-3AB0D29C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035D-25AF-4331-883E-221D07BC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97A47-CF59-4C70-AA12-9B53F273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DFB3-2840-4C0D-B46E-B5335E8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208E-C505-43E6-B8C5-DC51B6D8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BE28-A085-4244-81BE-231DB6D7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95B8-F303-4AAE-8DF9-9E7DC921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02D-11E3-43B5-BB34-774EDB13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30D14-61F3-400D-91E5-C95B5C4C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7551-280D-43E4-9479-4BB3DE98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733D5-B609-4080-9399-3AE817B9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4717B-76B6-48E4-8DCD-0151AD28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3A978-B17C-47FF-B10D-2305FF9A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64CEF-2409-444D-812D-4523C100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EDE6-73AD-45CF-AFCC-4B97328D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A5BEF-25C5-4492-9985-145F1193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40EB3-FD64-428E-963E-D0B67B92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E4CF3-4069-41E4-845F-B54EC930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662-6E88-4585-B89B-C28BA9CA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5F312-2A4B-477D-BD5E-EF57BC62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5AF75-BA7E-43D5-8ECD-725BD09A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E9E40-3B88-4107-996D-2F20783D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981BB-3E64-49AB-A121-FE97A464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8F400-D263-48FC-89F9-EB824A91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5F753-EF11-402B-8442-FCE91A2F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A533B-32CA-4662-8895-FEA3EA53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0C3A-33CD-4D1C-9E4C-0D950E6E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F672-9E77-4B1A-A706-A5BC9EA2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42402-D17C-45BE-A880-0ADCE86F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9C0-5F5F-44AF-AA09-A4746F67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FE972-D331-446D-BBCC-0A46F492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38E16-3B12-420F-A94C-1935FB1F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E1995-18E0-49C1-97A2-DE756F84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2665F-2189-4BCC-9EC9-FD126479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330F1-87AB-4841-988B-86C3FCAA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6FA5-11FD-457D-8D1B-CAF8817A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0F588-7ED5-4356-9564-8DD5A007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7F0F2-CFEA-4BBC-9542-43E05EBB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5E506-5C01-4066-8974-09CD1001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4128D-5568-48A4-8428-B8795A8D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866-9237-4463-A4D5-2DC199C6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39E47-71A6-44FD-BB65-B20342A1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27716-CA7D-461A-921E-86D7D4B4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3694F-214A-44EE-84E7-B6233B7D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14B84-1F3A-4EFC-8750-504F2B9B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C8662-F4A1-48B7-BA0B-657AFEC0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8B71E-001B-4EAB-8E6A-1120353A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89AE6-9EE7-4C6A-9E54-8C8C1866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93A2D-6B9D-4E80-AC57-957512EC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74EA3-4341-43C0-85EC-0E5DEF95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41302-B5A0-47D8-891F-E154EB13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04A-D537-4CD7-96B6-74D08D8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87D86-B9BB-4D5B-BCD8-242B1D8A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1397D-A115-4ADD-A7A3-45185585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1AD89-DD97-443E-96B8-79C0FC20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E99E3-7753-46A5-B6EF-74303BD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051FA-FD62-43D6-8953-97DDC29B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F3D15-67D9-4FBA-87EC-E9426FCF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7CA53-55A8-48D6-B81D-43EFFEC7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D81A8-B54D-47F1-BE02-F35EA669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F3BA4-BEFB-445E-B63B-037DE134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3A0F8-A22E-4499-8171-D1FB7899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11509-FF35-460C-8D3A-505B992A9C4E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1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36F2B-9591-4783-A5AD-092E67C5B554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1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36" name="Picture 12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C7AC1-ED86-4EA4-9F18-3A695777BA57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1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C49A4-842F-47A7-8B33-7CC0B1796BDB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1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4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2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B0B53-D455-42CA-B0A6-9D1C28F58557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D64E6-9B98-4984-85D2-494EE8A32D7D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ED81D-F6DE-4A13-97B1-3D36A7C90F75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AD9FE-7DA9-4CE3-99BB-203625A7DF30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C1E9D-0D66-4934-AAC6-5EE30E2A408B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B4089-DECF-4A22-95FA-BAAC58A31569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B790D-37EB-4A1B-8B73-22A5993CC4F8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740C6-1362-4026-9FAB-C140482CB461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32847-2233-43BE-9ABF-24A9E73D86B3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81D4D-C25A-4806-A564-CF340957B948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348" name="Picture 10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80398-3BA9-41B9-ABBD-E79AD7AEA81D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6 Imagen" descr="http://4.bp.blogspot.com/-2J6Q5b3Iqsc/TgxH0AKQQNI/AAAAAAAAAC4/EXj7wviOOGw/s1600/evaluacion_justa%255B1%255D.jpg"/>
          <p:cNvPicPr/>
          <p:nvPr/>
        </p:nvPicPr>
        <p:blipFill>
          <a:blip r:embed="rId1"/>
          <a:stretch/>
        </p:blipFill>
        <p:spPr>
          <a:xfrm>
            <a:off x="1066680" y="987480"/>
            <a:ext cx="73738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Momentos y tip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141732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sto MT"/>
              </a:rPr>
              <a:t>Inicial (Diagnóstica): Su objetivo es establecer una linea base de aprendizaje para diseñar las estrategias de intervención docente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sto MT"/>
              </a:rPr>
              <a:t>De proceso (Formativa): Permite valorar si la planificación se está realizando de acuerdo con lo planeado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sto MT"/>
              </a:rPr>
              <a:t>Final (Sumativa): Promueve que se obtenga un juicio global de avance en el logro de los aprendizajes esperados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Qué se evalúa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El objeto de  evaluación son los aprendizajes esperad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Para qué se evalúa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Se evalúa para aprender y en consecuencia  mejorar los procesos de enseñanza y de aprendizaje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Quiénes evalúan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El docente frente a grupo, mediante tres formas: la interna (sólo el docente), la externa (agente ajeno al centro escolar) y la participativa (involucra alumnos, otros docentes y directivos y permite  establecer acuerdos y negociaciones)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43160" indent="-4431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Cuándo se evalúa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La evaluación es un proceso cíclico que se lleva a cabo de manera sistemática y consiste en tres grandes fases: inicio, proceso y final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¿Cómo se evalúa? </a:t>
            </a:r>
            <a:r>
              <a:rPr b="0" lang="es-ES" sz="3600" spc="-1" strike="noStrike">
                <a:solidFill>
                  <a:srgbClr val="000000"/>
                </a:solidFill>
                <a:latin typeface="Calisto MT"/>
              </a:rPr>
              <a:t>Usando distintas técnicas e instrumentos para la recolección de información que pueden ser informales, semiformales y formales. En toodos los casos se obtienen evidencias cualitativas y cuantitativa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Cómo se emiten juicios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dentificando los aprendizajes esperados, seleccionando las evidencias de desempeño que permitan verificarlos y determinando los criterios que se usarán para evaluar las evidencia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Cómo se distribuyen las responsabilidades de la evaluación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La evaluación es corresponsabilidad de alumnos con docentes y padres o tutores, además de las autoridades escolares y las autoridades educativas estatales y federale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Qué se hace con los resultados de la evaluación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Deben analizarse para identificar las áreas de mejora y tomar decisiones que permitan avanzar hacia las metas que se esperan en beneficio de los alumn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El docente que evalúa con base en el enfoque formativo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571320" y="190476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Es un mediador entre el conocimiento y el aprendizaje de sus alumn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Es un profesional reflexivo que de manera crítica examina su práctica, toma decisiones y soluciona problema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El docente que evalúa con base en el enfoque formativo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Promueve aprendizajes significativ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20480" indent="-4204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Presta ayuda pedagógica de acuerdo a las necesidades de los alumn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20480" indent="-4204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Establece como meta la autonomía de los alumn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Imagen 4" descr=""/>
          <p:cNvPicPr/>
          <p:nvPr/>
        </p:nvPicPr>
        <p:blipFill>
          <a:blip r:embed="rId1"/>
          <a:stretch/>
        </p:blipFill>
        <p:spPr>
          <a:xfrm>
            <a:off x="1955880" y="309600"/>
            <a:ext cx="47433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Un modelo de evaluación con enfoque formativo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47680" y="1703160"/>
            <a:ext cx="861048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aridad respecto a los aprendizajes esperados, los criterios de evaluación y reconocimiento de los aprendizajes con que cuentan los alumnos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La evaluación debe darse paralelamente al proceso de aprendizaje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Retroalimentar el trabajo de los alumnos para subsanar las dificultades detectadas en el aprendizaje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7440" y="274320"/>
            <a:ext cx="86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¿Cómo se define la evaluación de los aprendizajes desde el enfoque formativo?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sto MT"/>
              </a:rPr>
              <a:t>Es </a:t>
            </a: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el proceso que permite obtener evidencias, elaborar juicios y brindar retroalimentación sobre los logros de aprendizaje de los alumnos a lo largo de su formación; por tanto, es parte constitutiva de la enseñanza y del aprendizaje” (SEP, 2011:22)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La medición en el contexto formativo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571320" y="2446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Se define como la asignación de un valor numérico a conocimientos, habilidades, valores o actitudes, logrados por los alumnos durante un periodo de corte, particularmente en primaria y secundaria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La estimación en el contexto formativo de la evaluación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Es la acción concreta de emitir un juicio de lo que ha aprendido un alumno, con base en evidencias cualitativas y cuantitativas, cuando sea el caso.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Una forma de estimación en el ámbito escolar es la calificación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La calificación en el contexto formativo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sto MT"/>
              </a:rPr>
              <a:t>Calificar se refiere sólo a la expresión cualitativa del nivel de desempeño,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sto MT"/>
              </a:rPr>
              <a:t>A: Destacado, B: Satisfactorio, C: Suficiente, y D: Insuficiente,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sto MT"/>
              </a:rPr>
              <a:t>o cuantitativa (10, 9, 8, 7, 6, 5)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La acredit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71320" y="1904760"/>
            <a:ext cx="80010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Consiste en tomar la decisión respecto a la pertinencia de que un alumno acceda al grado escolar o nivel educativo siguiente o termine la educación básica, en función de las evidencias cualitativas y cuantitativas que se tienen sobre el logro de los aprendizajes esperados de cada alumno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a evaluación desde el enfoque formativo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47680" y="1417680"/>
            <a:ext cx="8672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Además de tener como propósito contribuir a la mejora del aprendizaje, regula el proceso de enseñanza y de aprendizaje para adaptar o ajustar las condiciones pedagógicas  en función de las necesidades de los alumn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El proceso es más importante que el resultado y éste se convierte en un elemento de reflexión para la mejora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Funcione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17440" y="1641240"/>
            <a:ext cx="870264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Pedagógica: Permite identificar las necesidades de los alumnos, mediante la reflexión y mejora de la enseñanza y del aprendizaje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29480" indent="-42948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Social: Se relaciona con la creación de oportunidades para seguir aprendiendo y la comunicación de resultados al final de un periodo para hacer ajuste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01:03:54Z</dcterms:created>
  <dc:creator>JERÓNIMO ONTIVEROS PÉREZ</dc:creator>
  <dc:description/>
  <dc:language>en-US</dc:language>
  <cp:lastModifiedBy>JERÓNIMO ONTIVEROS PÉREZ</cp:lastModifiedBy>
  <dcterms:modified xsi:type="dcterms:W3CDTF">2013-06-12T03:37:26Z</dcterms:modified>
  <cp:revision>19</cp:revision>
  <dc:subject/>
  <dc:title>Presentación de PowerPoint</dc:title>
</cp:coreProperties>
</file>